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E4F4-9612-41EE-AAAB-EE3E93DC4FC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8654-AD7A-4E05-9FF8-74DFBB4B143B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6814-233F-497C-8CDC-774C1C6C624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7A38-C5CB-4F28-9ABD-A50E8231DC3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05E0-E5A1-4A9D-A3D8-6845E44A793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A65F-B176-4044-A9B1-0B09B4850EC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10C0-E776-4539-80C1-47D97021A75D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6ECA-C136-4E96-993B-F3695776FBA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D96D-9FD9-4AE4-BEDD-408FE1FD731B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B402-B298-4A93-8460-E706818CFCBD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AE9D-AF96-4509-A9DF-28A4B2C140BD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CB96-0886-4A2D-B783-004E4F137AF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6991-BE98-46EE-BBF8-0CBAFB959E5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0DE-CCA3-4AF3-9154-5F795E61213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7D97-E49F-4AAF-BFFA-9F42CCADCD7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DFCD-B8AE-461D-9A8E-D20BF2F81F44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2AFC-C0A0-44C2-8240-8DCBDF5BA3C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04CB-8192-42C2-95DC-D37EE41A1A7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D1C-CFE0-45D8-9D09-485C54E26C7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764-E17C-4ECC-921C-7608FDE3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C6B-E9EC-4C29-82FB-637A6B8B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9CC-6BFF-446E-9DF6-FF0D71C0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73B-7F64-4790-8B47-37D50493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E6A8-876D-423D-8C0C-1AA21D74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914-9A73-44B2-825D-0D3CE0E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8B6C-79EE-43CB-83FE-0F4B107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B2C-71EA-412D-8F14-F12D41FA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8EF8-9B93-435C-BCFC-731863B3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C569-EDEF-4783-8F8B-4928385D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A2DC-06F6-4318-92F4-A6C606F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30C-4B0C-41D4-ABBD-1539654A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00E0-3AE3-42DD-9988-7941929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AB9-3EC6-4083-B09C-C1B7EE27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8DA-66DF-4A6D-8DEC-44399C7A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12F6-63CF-462C-84BF-9E57658D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72C-912F-4CA5-9C9D-F319E86E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A3AC-19C0-4493-8836-F06C8F86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E43F-C996-469C-97D3-9F0DF21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00E7-FCE7-4EB9-A6C0-C85A1825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217E-8DCC-45BB-A1B8-94CC8220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EB8A-7CEB-4CAF-B0DD-6F16C7FB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D99-2603-4B6C-B120-75DB06E4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028E-B04D-442B-A455-4B67F3D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BD63-A8E6-41BE-BF12-D92C9DA3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F9BD-60B5-42B6-A003-CE48F1D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5DED-D72C-4505-90B6-D42C8A1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179C-92F2-44BA-9DC4-3DC0FF7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B3A6-3964-4971-9A94-DFB30E8C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AE3F-75B7-4E8C-91E0-99ADB58E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04F7-EEF1-4987-9E0F-A7521DA3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1205-EA65-4087-BFD5-85F152AB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2686-DC15-43CF-B8BB-EBDA36BD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86B-0FD0-49FE-99BB-FB0FCFF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D543-55CE-49C0-A510-1479F933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7157-A943-4628-8A11-A65D8B60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2D59-83D9-4FBF-8036-5ABF0870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5917-9EED-473E-94FA-ED7007F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E388-2451-4E15-902D-3B2EA133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97CF-85AB-4FC5-86B1-9B95731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1E38-CBAD-4F33-8FE9-AB47BF41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D408-39BA-4A6F-BF92-DC7ADC55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348F-8B06-484D-9DB9-038C73C3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8953-AA49-40E4-AFC4-15C5E7C7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E5B-3997-4F09-87F7-AAAE923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3507C-BA39-4336-BB64-345C0B73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BC37-3E41-44D9-89C5-66D5F9B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F6EED-5383-43FC-80D6-C6A46A32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1BC4F-245F-4993-B57D-3B8DE688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1B84-BBBA-47BD-B115-47EA0926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198CB-DADF-4907-A9F9-BD0F0FC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B634-67A6-4712-9B11-40A68A82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2ADC6-160A-484D-8C1D-D051498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3B64-AA96-4B99-BC3D-FF35A55B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CDBA-3A33-4E93-911F-E634F7C0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AC3-755B-408A-A3DF-C6C7F88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BD05-13ED-44B3-BB03-5CC09254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B7127-FAA7-4CBF-8886-8954D97D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E373-0530-442F-A1B6-C511D7E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5B4A4-81C4-4A3B-9416-AAB4CE5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93EE-D789-4F3C-BC2C-CF03D715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9258-CA6C-4F96-9D8C-64EBF361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C91F-3114-491A-B956-7957A7F6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404C-EF73-4C86-962D-26DB666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0E5E3-CA0C-4762-922F-F7AB26C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E352A-F658-4C80-BFEE-B3D4760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710-6DC2-4D90-9F5F-C2DA4912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4FC51-F625-4F38-B1DB-8BFE48C8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E4BD-EB9B-46D4-B0F0-AADAE8C1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2E6C-76D4-4491-B6E1-8149A484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9A6F-DACB-403E-A68F-43161990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F7107-D61C-4581-901E-01BC591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6960-0CCB-486F-B097-151BF302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7E95A-B556-4568-A66A-B7936F35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0F40A-CDF3-4583-9F6D-6F0E9E3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A83E9-94E7-4B20-9157-4FF263FB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51178-298B-42B5-8D0F-30928C7A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93A-413F-4C7B-A41B-516AB46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53F9A-3640-4828-AEC9-753D2C7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6EC7E-7094-4DEC-8BB4-BEF7B013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59555-88FA-42D7-953F-2AE0C2E8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D8D06-5F6D-4C20-AD74-DB586ED3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C774B-A9FB-45DF-888C-7C336D40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0FB-27C1-4DA8-864C-8A71E97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EF6-81D0-46EC-AA98-4268163279E4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44C-7A51-4BFC-ACD8-A40C529C7597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51B0-EB9E-420E-AFD1-8BB90758935D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E78B-5DD6-4870-914C-B37691EC87CF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6937-96CD-4A2C-A334-A4130012C501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B3F-6E72-4239-8BFE-E100784C650A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9152-44B4-4D32-B154-8B2130AE99B0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fn.uncor.edu/dep/biologia/intrbiol/indgen.htm" TargetMode="External"/><Relationship Id="rId2" Type="http://schemas.openxmlformats.org/officeDocument/2006/relationships/hyperlink" Target="http://www.efn.uncor.edu/dep/biologia/intrbiol/indgen.htm" TargetMode="External"/><Relationship Id="rId3" Type="http://schemas.openxmlformats.org/officeDocument/2006/relationships/hyperlink" Target="http://lagenetica.info/" TargetMode="External"/><Relationship Id="rId4" Type="http://schemas.openxmlformats.org/officeDocument/2006/relationships/hyperlink" Target="http://www.juntadeandalucia.es/averroes/concurso2006/ver/26/genetica1.html" TargetMode="External"/><Relationship Id="rId5" Type="http://schemas.openxmlformats.org/officeDocument/2006/relationships/hyperlink" Target="http://www.edunexos.edu.co/webquest/" TargetMode="External"/><Relationship Id="rId6" Type="http://schemas.openxmlformats.org/officeDocument/2006/relationships/hyperlink" Target="http://webquest.wordpress.com/2007/11/01/genetica-humana/" TargetMode="External"/><Relationship Id="rId7" Type="http://schemas.openxmlformats.org/officeDocument/2006/relationships/hyperlink" Target="http://www.geocities.com/...mendel.htm" TargetMode="External"/><Relationship Id="rId8" Type="http://schemas.openxmlformats.org/officeDocument/2006/relationships/hyperlink" Target="http://html.rincondelvago.com/leyes-de-mendel.html" TargetMode="External"/><Relationship Id="rId9" Type="http://schemas.openxmlformats.org/officeDocument/2006/relationships/hyperlink" Target="http://www.infobide.com/quiron/genetica.html" TargetMode="External"/><Relationship Id="rId10" Type="http://schemas.openxmlformats.org/officeDocument/2006/relationships/hyperlink" Target="http://www.ivi.es/" TargetMode="External"/><Relationship Id="rId11" Type="http://schemas.openxmlformats.org/officeDocument/2006/relationships/hyperlink" Target="http://www.nlm.nih.gov/medlineplus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ca.es/huesped/down/introdown.htm" TargetMode="External"/><Relationship Id="rId2" Type="http://schemas.openxmlformats.org/officeDocument/2006/relationships/hyperlink" Target="http://www.fcsd.org/cas/forums/faq.htm" TargetMode="External"/><Relationship Id="rId3" Type="http://schemas.openxmlformats.org/officeDocument/2006/relationships/hyperlink" Target="http://www.sindromedown.net/web2/sindrome.asp" TargetMode="External"/><Relationship Id="rId4" Type="http://schemas.openxmlformats.org/officeDocument/2006/relationships/hyperlink" Target="http://www.nichd.nih.gov/publications/pubs/downsyndrome/down-sp.htm" TargetMode="External"/><Relationship Id="rId5" Type="http://schemas.openxmlformats.org/officeDocument/2006/relationships/hyperlink" Target="http://www.down21.org/" TargetMode="External"/><Relationship Id="rId6" Type="http://schemas.openxmlformats.org/officeDocument/2006/relationships/hyperlink" Target="http://www.nlm.nih.gov/medlineplus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6 Marcador de contenido" descr="ecografia4d.jpg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4829040" cy="914400"/>
          </a:xfrm>
          <a:prstGeom prst="rect">
            <a:avLst/>
          </a:prstGeom>
          <a:solidFill>
            <a:srgbClr val="2c3f7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HIJOS A LA CAR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28400" y="642600"/>
            <a:ext cx="8186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puede escoger el sexo del embrión y qué implicaría su selección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qué casos la ley permite escoger el sexo del futuro embrió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transmit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altonismo y la hemofili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é es la herencia ligada al sex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l árbol genealógico  familiar para cada enferme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daltónic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hemofílico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9288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Recurs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7132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s básicos de genética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Conceptos de genética 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2"/>
              </a:rPr>
              <a:t>http://www.efn.uncor.edu/dep/biologia/intrbiol/indgen.htm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La genética al alcance de todos </a:t>
            </a:r>
            <a:r>
              <a:rPr b="0" lang="es-ES" sz="1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3"/>
              </a:rPr>
              <a:t>http://lagenetica.info/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4"/>
              </a:rPr>
              <a:t>http://www.juntadeandalucia.es/averroes/concurso2006/ver/26/genetica1.html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5"/>
              </a:rPr>
              <a:t>http://www.edunexos.edu.co/webquest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6"/>
              </a:rPr>
              <a:t>http://webquest.wordpress.com/2007/11/01/genetica-humana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yes de Mend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7"/>
              </a:rPr>
              <a:t>http://www.geocities.com/...mendel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8"/>
              </a:rPr>
              <a:t>http://html.rincondelvago.com/leyes-de-mendel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técnicas de reproducción asistida, cariotipos, diagóstico prenatal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9"/>
              </a:rPr>
              <a:t>http://www.infobide.com/quiron/genetica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0"/>
              </a:rPr>
              <a:t>http://www.ivi.e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1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99680" y="285480"/>
            <a:ext cx="79153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el síndrome de Down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http://www.uca.es/huesped/down/introdown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ttp://www.fcsd.org/cas/forums/faq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www.sindromedown.net/web2/sindrome.asp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www.nichd.nih.gov/publications/pubs/downsyndrome/down-sp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http://www.down21.org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la hemofili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el genoma humano y el cariotip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monografias.co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edunexos.edu.co/webquest/wq2.5/webquest/soporte_derecha_w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Selección del sexo de los embriones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dexeus.com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cnice.mecd.es/tematicas/genetica/2003_10/2003_10_00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mujer.terra.es/muj/articulo/html/mu24324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Cuestion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eb.educastur.princast.es/proyectos/biogeo_ov/4a_ESO/06_genetica/problemas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914400"/>
          </a:xfrm>
          <a:prstGeom prst="rect">
            <a:avLst/>
          </a:prstGeom>
          <a:solidFill>
            <a:srgbClr val="138677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060"/>
                </a:solidFill>
                <a:latin typeface="Consolas"/>
              </a:rPr>
              <a:t>Evalu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114300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1.-Uso de la tecnologí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 y toma nota de la información de interés, participa en la wiki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un buen rendimiento de internet, anota las páginas visitadas y algunos recursos adicionales de interés. Participa en la wiki y en el blog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muy buen rendimiento de internet, anota las páginas visitadas que le han sido útiles y encuentra recursos adicionales de interés. Participa en la wiki, en el blog y en el doc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2.- Realización de la tare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no interviene en el trabajo del resto del grupo. El informe contiene algunos errores que se podrían haber evitado contrastando el trabajo con el de los compañero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al menos la parte del trabajo individual que le corresponde dentro del grupo. No interviene con el trabajo de los compañeros. Los informes responden la mayor parte de las pregunt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4292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abora con los compañeros y facilita el trabajo conjunto. Los informes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con responsabilidad y se asegura de que su trabajo individual esté coordinado con el del grupo. Comparte sus progresos con los compañeros. Los informes no contienen errores,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3.- Trabajo en equip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en grupo y no intenta hacer el trabajo solo. Observa la elaboración y revisión de los informes pero no participa activamente en las discusiones….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s discusiones durante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 y anima a los demás. Se concentra en el trabajo y en los plazos propuestos y contribuye a la elaboración y revisión de los informe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. Da y recibe sugerencias para ayudar o recibir ayuda de los demás. Mantiene una actitud positiva y contribuye muy activamente en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42960" y="42840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4.-Infor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y responde las preguntas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Responde bien la mayor parte de las preguntas  y elabora la conclusión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un buen informe y una buena conclusión.Cita las referenci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informes y la conclusión son correctos y están bien razonados.Cita todas las referencias consultad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5.- Cuestio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no responde adecuad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responde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  muy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n satisfactori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ara que el supervisor considere satisfactorio el informe se debe alcanzar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de los 20 puntos, al menos 15 puntos 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72400" cy="9144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Conclus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128556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supuesto y los problemas planteados te h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do a comprender un poco mejor cómo funciona la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. Además, has utilizado algunas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ramientas web 2.0, donde   has tenido la oportunidad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opinar sobre cuestiones polémicas como escoger 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o  de los hij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elaborar el informe, has tenido que pensar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rítica, buscar información, comunicarl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lara, ser responsable y trabajar en equip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56760" y="356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e8d6"/>
                </a:solidFill>
                <a:latin typeface="Times New Roman"/>
                <a:ea typeface="Times New Roman"/>
              </a:rPr>
              <a:t>Como ejercicio final, responde las siguientes cuestiona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Te sientes satisfecho con la calidad final del informe que has o habéis elaborad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podrías haber hecho para mejorar su cal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relacionadas anteriormente crees que has mejorado más al hacer est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tendrías que concentrarte para mejorar en el futur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tareas te han ayudado a desarrollar las habilidades que te han sido necesarias a lo largo de l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valorarías tu trabajo? Detalla ejemplos que justifiquen tu valoració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91440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Crédi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9680" y="14288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z un listado de las fuentes y de los recursos que h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ado para el diseño de la WebQuest ,ya sean est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ágenes, bibliografía, enlaces, et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puedes expresar aquí agradecimientos a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s, instituciones o entidades que tu consider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s ofrecer también una lista de referenci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gráficas o de cualquier otro tipo de recurso 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o analógico que igualmente hayas utilizado o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 utilizar como fuente de informació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10 Diagrama" descr=""/>
          <p:cNvPicPr/>
          <p:nvPr/>
        </p:nvPicPr>
        <p:blipFill>
          <a:blip r:embed="rId1"/>
          <a:stretch/>
        </p:blipFill>
        <p:spPr>
          <a:xfrm>
            <a:off x="378000" y="420840"/>
            <a:ext cx="85946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87134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icio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49976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pocos meses que trabajamos en CRA, es un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centro de  genét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ofrece consejo  a parejas qu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an  tener hijos y que aplican técnicas d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ción asistida para ayudar a aquellas que  tien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s de esterili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CRA, ha asistido  una pareja que dese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soramiento sobre su futuro  hija/o libr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ermedades genéticas, ya que tienen  antecedent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es de Síndrome de Down y  hemofil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1440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troduc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8400" y="142884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departamento de genética, a cuál pertenecemos, n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enviado los historiales médicos y una  muestr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gre, de ambos progenitores, para que  realicemos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exhaustivo para informar a la  pareja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bilidades de tener una niña/o  sana/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tener en cuenta que este informe se realizará 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po, por  lo que todos los miembros deben estar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ectados y  trabajar en un  documento en línea,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ail del au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92d05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Tare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716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uestro objetivo es realizar dicho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informe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lla  en el apartado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proces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reunión que tendréis con la pareja, dentr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quince días , hay  que entregar una copia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y donde se resolverán las dudas que se l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een durante  la exposición del informe. Además, tenéis que entregar una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copia 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upervisor,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 nuestro supuesto es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el profesor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f00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Proces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320" y="1784520"/>
            <a:ext cx="84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pareja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 joven, tienen 32 y 28 años, Marta 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.Vienen porque Marta está embarazada de 1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nas y   están preocupados, porque Marta tiene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ano   pequeño, David, que tiene el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índrom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u  madre  María  lo tuvo a los 43 años.  El padr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hermano de  Marta son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altónicos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ella y su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re no lo s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uanto a Juan, no es  daltónico, pero sí padec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hemofili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 padre, Pedro, también la pade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99680" y="49968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Quieren sabe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a partir del cariotipo del embrión y que técnica se emplearía para ell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u hijo/a podría tener también este síndrome ya que han oído que eso puede pasar si tienen los dos cromosomas 21 unidos, pero no acaban de entender qué significa est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l niño/a será daltónico y/o padecerá hemofil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centro habéis decidido hacerles el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iotip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l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enitores. Los resultados están en las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figuras 1 y 2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4 Marcador de contenido" descr="cariotipoxx.gif"/>
          <p:cNvPicPr/>
          <p:nvPr/>
        </p:nvPicPr>
        <p:blipFill>
          <a:blip r:embed="rId1"/>
          <a:stretch/>
        </p:blipFill>
        <p:spPr>
          <a:xfrm>
            <a:off x="642960" y="714240"/>
            <a:ext cx="4048200" cy="5286600"/>
          </a:xfrm>
          <a:prstGeom prst="rect">
            <a:avLst/>
          </a:prstGeom>
          <a:ln w="0">
            <a:noFill/>
          </a:ln>
        </p:spPr>
      </p:pic>
      <p:pic>
        <p:nvPicPr>
          <p:cNvPr id="389" name="5 Imagen" descr="cariotipoxy.gif"/>
          <p:cNvPicPr/>
          <p:nvPr/>
        </p:nvPicPr>
        <p:blipFill>
          <a:blip r:embed="rId2"/>
          <a:stretch/>
        </p:blipFill>
        <p:spPr>
          <a:xfrm>
            <a:off x="4786200" y="714240"/>
            <a:ext cx="4048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56760" y="428400"/>
            <a:ext cx="8572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Les tenéis que explicar</a:t>
            </a:r>
            <a:r>
              <a:rPr b="0" lang="es-E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é sirv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iagnóstico prenat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ómo se hace y  si se recomienda  hacer un diagnóstico  a su hijo/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usa d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síndrome de 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¿Qué pasaría si los dos cromosomas 21 estuviesen unidos?. ¿Qué es un cariotipo? y explicarles si sus cariotipos son normales o presentan alguna anomalí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 de su hijo/a  y que técnicas se emplearían para ello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funciona la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eterminación del sex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especie human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1:14:30Z</dcterms:created>
  <dc:creator>Sisa</dc:creator>
  <dc:description/>
  <dc:language>en-US</dc:language>
  <cp:lastModifiedBy>Sisa</cp:lastModifiedBy>
  <dcterms:modified xsi:type="dcterms:W3CDTF">2010-04-04T08:49:03Z</dcterms:modified>
  <cp:revision>24</cp:revision>
  <dc:subject/>
  <dc:title>Diapositiva 1</dc:title>
</cp:coreProperties>
</file>