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54AC-9FD7-4CB5-9B55-4E652DD0280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909-D12D-42D3-A700-4587CB08E2A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6FCB-1765-4EEA-84D7-36585FF2E3E5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C486-5E6C-4C72-B809-A83B99C3A47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075B-0230-4BCE-9270-E0E9BF8FB8F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B194-E319-47BF-B148-D2735899D5A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699-6697-46D3-A2D4-1536CB60E7C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D88-52D6-4462-B118-5E9ADEA5F5B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929-FC61-4EF5-8CDD-F47CA317370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325D-4926-444E-8077-91952087FC8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136-2D73-441F-856E-34DCEE7A242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F1EA-F5D0-4BB7-BB2D-CFD898255AD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EE31-5A54-4167-8EEC-35B412AEAEB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23AD-C5A2-49AD-85D3-F47B1FC97BE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5CA-12AE-4725-AF0F-5B1A82DFB43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299-1939-4F85-8641-E4E77325ACF8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78C-63B2-43DF-B3BB-CDCCFEB160D0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EE86-E42C-4FBE-A5B3-4A437F1AC58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2367-1129-4F49-A6E8-079D5D3821BE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AED-7835-4F99-A654-5FAF9C92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410-54A6-4639-8B90-78D506FA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DF6-6480-4079-B259-E23D1870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966-BCD4-4CAB-8E49-03CE6DF0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9959-3837-4AB1-A14C-F802F23D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739-A2DE-4DE2-9BDA-9C74822D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9FB9-22CC-4698-AAC1-256FFFE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8E7A-06D1-46C9-BAB7-92C3DB1E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6613-D145-4CB3-8C54-1E7D156E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351-5DB3-4497-9D83-9E74F9BD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829C-E5BC-4716-A04D-80BEC4CE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88D-D760-4A38-85BD-EFD24016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6D75-C7D0-4F3D-AD4E-2EE3E04E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009A-FD2E-49B1-ACA7-7306904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3CE-E456-4312-AD12-B5AFE54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D188-DCAC-4FCB-9289-DAB9DC5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E03-14F6-433F-97EC-F679406D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8C9C-A4F3-40C0-B376-AD783F4A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2A49-CCAA-459E-8650-76346077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F298-C9D1-4655-940D-89DFA61E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A7D7E-E0AB-4A1A-9CA8-BCEE6575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167D-DB7A-4E26-A2D1-907C8564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54F-515A-4A93-9376-4853A9C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25B0-E1B6-4BE4-B2B2-76E10F8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EC75-89F5-49A1-824E-5D4AAE5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FB86-D41D-4827-A449-77269CC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74D8-AA4F-458F-BD9E-6BA80DC7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1607-48BD-4D57-B884-8A43F714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9BC4-2130-424F-ABB3-B92A75E5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7D5E-D8D3-4579-BF09-F04A249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B2EE-5563-4FD1-8F28-CA288FB5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EEC0-CA53-4A3D-A664-CFAB2F69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5C2E-BBC8-429D-A8B3-FDBDA31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A2F-B22F-48C4-A107-9AD85BC3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7012-A56D-4488-8257-1583C19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264A-A0ED-47E2-B00F-5A6F5A5F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76F3-64C0-4374-9302-D2687F8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D281-2888-475C-9DC9-D07532E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B953-7253-4A77-85DF-1E7407F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1E51-A514-4F86-B158-E2D88350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AE4DA-79A6-4F8D-85E7-27CD5A71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7BA7C-91C2-47D1-8BC1-BCF9858D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C955-374C-42A5-B8CF-ED9341AA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E0DAC-D2AC-428E-B834-0AD589FB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398-E424-4214-A201-4A4C3FC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D677-DFF5-452B-B30E-9C546BB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A028-AFBD-4697-975D-D02F72E3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F9D1-4DAE-461F-9B45-207C91E9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B20B-F833-4C2B-9F39-7CC53959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AD5DA-7A45-4DEF-9DBC-D33ACD8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E4C46-2E6A-492E-B0B3-381955A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A89B5-EDC9-4909-8C89-6D21A93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666BF-59E3-4301-9D81-30B0E2A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DF5FD-2B82-4EF2-B28E-A5D046B4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1E72-1439-4920-AD6B-CB012074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9D5-6D72-41A5-A0BD-5C7E963F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69CD-E939-4408-9858-F88A4776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261E-8DAF-4EE1-BBF3-778F02F4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AB2D-7B23-4C11-9159-66803BE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B718C-F867-451D-8057-7944000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36814-FFB0-4D1B-9B35-C7201FE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7E42B-68F5-41DA-8AB8-649DD6AC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A787A-3241-48F4-9394-D50D597A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C8A2-02DD-4980-B0D6-0B163307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2C73-46D3-4735-9423-2B1D999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735C-A165-411A-862B-F5E4A0D6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A5F-912F-49F7-98A5-9CD554D3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F81F0-B193-4997-96A2-DCDA656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22AB-F633-4186-AA59-ACEBC30E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5F54-6130-4EB8-BD59-B190D2C9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8F2D-1C0D-4706-86E0-C34B1ADB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8AD7-5D1D-403A-B8D2-A6B65BFD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7090-6AED-4B0F-984A-E7D0D771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0CFE9-47C2-4EF8-9B26-951D7CC3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D55A-0FFA-45E7-BD0C-7D3C6C2C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DAD5C-2BB9-410D-95D9-AF1412AD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3A93-87AA-402E-A609-731D69FD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D68-6534-4633-B30D-3B433977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476B0-40FE-419F-B5E4-8BBB53E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A686-D25A-4BF4-B561-A57BE44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230B0-19EB-4376-9AB7-CCEB3B3C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BD1AB-5724-4FD8-968C-9D6C501A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34AFF-D6D4-40A6-AF47-0755AD12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E08-5A59-413D-B58D-7A7CB2B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3A8-1410-41F8-8576-383A7F8D0EE1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539-6AB2-4E19-99F3-0A9ADC38B681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B5A5-106F-45FE-82F7-BA89E36654E3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A56-AB5B-43C0-B73D-B0FF32FEBEAB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B096-8FAE-4726-B23E-B1A319578643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037-D46E-42D0-873B-0E7CE9E9D083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23A-6D22-4DED-9059-C117057718A6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fn.uncor.edu/dep/biologia/intrbiol/indgen.htm" TargetMode="External"/><Relationship Id="rId2" Type="http://schemas.openxmlformats.org/officeDocument/2006/relationships/hyperlink" Target="http://www.efn.uncor.edu/dep/biologia/intrbiol/indgen.htm" TargetMode="External"/><Relationship Id="rId3" Type="http://schemas.openxmlformats.org/officeDocument/2006/relationships/hyperlink" Target="http://lagenetica.info/" TargetMode="External"/><Relationship Id="rId4" Type="http://schemas.openxmlformats.org/officeDocument/2006/relationships/hyperlink" Target="http://www.juntadeandalucia.es/averroes/concurso2006/ver/26/genetica1.html" TargetMode="External"/><Relationship Id="rId5" Type="http://schemas.openxmlformats.org/officeDocument/2006/relationships/hyperlink" Target="http://www.edunexos.edu.co/webquest/" TargetMode="External"/><Relationship Id="rId6" Type="http://schemas.openxmlformats.org/officeDocument/2006/relationships/hyperlink" Target="http://webquest.wordpress.com/2007/11/01/genetica-humana/" TargetMode="External"/><Relationship Id="rId7" Type="http://schemas.openxmlformats.org/officeDocument/2006/relationships/hyperlink" Target="http://www.geocities.com/...mendel.htm" TargetMode="External"/><Relationship Id="rId8" Type="http://schemas.openxmlformats.org/officeDocument/2006/relationships/hyperlink" Target="http://html.rincondelvago.com/leyes-de-mendel.html" TargetMode="External"/><Relationship Id="rId9" Type="http://schemas.openxmlformats.org/officeDocument/2006/relationships/hyperlink" Target="http://www.infobide.com/quiron/genetica.html" TargetMode="External"/><Relationship Id="rId10" Type="http://schemas.openxmlformats.org/officeDocument/2006/relationships/hyperlink" Target="http://www.ivi.es/" TargetMode="External"/><Relationship Id="rId11" Type="http://schemas.openxmlformats.org/officeDocument/2006/relationships/hyperlink" Target="http://www.nlm.nih.gov/medlineplus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ca.es/huesped/down/introdown.htm" TargetMode="External"/><Relationship Id="rId2" Type="http://schemas.openxmlformats.org/officeDocument/2006/relationships/hyperlink" Target="http://www.fcsd.org/cas/forums/faq.htm" TargetMode="External"/><Relationship Id="rId3" Type="http://schemas.openxmlformats.org/officeDocument/2006/relationships/hyperlink" Target="http://www.sindromedown.net/web2/sindrome.asp" TargetMode="External"/><Relationship Id="rId4" Type="http://schemas.openxmlformats.org/officeDocument/2006/relationships/hyperlink" Target="http://www.nichd.nih.gov/publications/pubs/downsyndrome/down-sp.htm" TargetMode="External"/><Relationship Id="rId5" Type="http://schemas.openxmlformats.org/officeDocument/2006/relationships/hyperlink" Target="http://www.down21.org/" TargetMode="External"/><Relationship Id="rId6" Type="http://schemas.openxmlformats.org/officeDocument/2006/relationships/hyperlink" Target="http://www.nlm.nih.gov/medlineplus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ecografia4d.jpg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4829040" cy="914400"/>
          </a:xfrm>
          <a:prstGeom prst="rect">
            <a:avLst/>
          </a:prstGeom>
          <a:solidFill>
            <a:srgbClr val="2c3f7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IJOS A LA CAR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28400" y="64260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puede escoger el sexo del embrión y qué implicaría su selección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qué casos la ley permite escoger el sexo del futuro embrió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transmit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altonismo y la hemofili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é es la herencia ligada al sex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l árbol genealógico  familiar para cada enferme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daltónic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hemofílico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28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Recurs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s básicos de genética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Conceptos de genética 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://www.efn.uncor.edu/dep/biologia/intrbiol/indgen.htm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La genética al alcance de todos </a:t>
            </a:r>
            <a:r>
              <a:rPr b="0" lang="es-ES" sz="1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http://lagenetica.info/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http://www.juntadeandalucia.es/averroes/concurso2006/ver/26/genetica1.html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http://www.edunexos.edu.co/webquest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://webquest.wordpress.com/2007/11/01/genetica-humana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yes de Mend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http://www.geocities.com/...mendel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http://html.rincondelvago.com/leyes-de-mendel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técnicas de reproducción asistida, cariotipos, diagóstico prenatal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://www.infobide.com/quiron/genetica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http://www.ivi.e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99680" y="285480"/>
            <a:ext cx="7915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el síndrome de Down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uca.es/huesped/down/introdown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www.fcsd.org/cas/forums/faq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www.sindromedown.net/web2/sindrome.as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www.nichd.nih.gov/publications/pubs/downsyndrome/down-sp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ttp://www.down21.org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la hemofili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el genoma humano y el cariotip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monografias.co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edunexos.edu.co/webquest/wq2.5/webquest/soporte_derecha_w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Selección del sexo de los embriones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dexeus.com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cnice.mecd.es/tematicas/genetica/2003_10/2003_10_00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mujer.terra.es/muj/articulo/html/mu24324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Cuestion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eb.educastur.princast.es/proyectos/biogeo_ov/4a_ESO/06_genetica/problemas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914400"/>
          </a:xfrm>
          <a:prstGeom prst="rect">
            <a:avLst/>
          </a:prstGeom>
          <a:solidFill>
            <a:srgbClr val="138677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060"/>
                </a:solidFill>
                <a:latin typeface="Consolas"/>
              </a:rPr>
              <a:t>Evalu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1.-Uso de la tecnologí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 y toma nota de la información de interés, participa en la wiki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un buen rendimiento de internet, anota las páginas visitadas y algunos recursos adicionales de interés. Participa en la wiki y en el blog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muy buen rendimiento de internet, anota las páginas visitadas que le han sido útiles y encuentra recursos adicionales de interés. Participa en la wiki, en el blog y en el doc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2.- Realización de la tare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no interviene en el trabajo del resto del grupo. El informe contiene algunos errores que se podrían haber evitado contrastando el trabajo con el de los compañero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al menos la parte del trabajo individual que le corresponde dentro del grupo. No interviene con el trabajo de los compañeros. Los informes responden la mayor parte de las pregunt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4292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abora con los compañeros y facilita el trabajo conjunto. Los informes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con responsabilidad y se asegura de que su trabajo individual esté coordinado con el del grupo. Comparte sus progresos con los compañeros. Los informes no contienen errores,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3.- Trabajo en equip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en grupo y no intenta hacer el trabajo solo. Observa la elaboración y revisión de los informes pero no participa activamente en las discusiones….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s discusiones durante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 y anima a los demás. Se concentra en el trabajo y en los plazos propuestos y contribuye a la elaboración y revisión de los informe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. Da y recibe sugerencias para ayudar o recibir ayuda de los demás. Mantiene una actitud positiva y contribuye muy activamente en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42960" y="42840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4.-Infor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y responde las preguntas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Responde bien la mayor parte de las preguntas  y elabora la conclusión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un buen informe y una buena conclusión.Cita las referenci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informes y la conclusión son correctos y están bien razonados.Cita todas las referencias consultad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5.- Cuesti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no responde adecuad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responde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  muy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n satisfactori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ara que el supervisor considere satisfactorio el informe se debe alcanza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e los 20 puntos, al menos 15 puntos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9144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Conclus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2855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supuesto y los problemas planteados te h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do a comprender un poco mejor cómo funciona la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. Además, has utilizado algunas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ramientas web 2.0, donde   has tenido la oportunida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opinar sobre cuestiones polémicas como escoger 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o  de los hi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elaborar el informe, has tenido que pensar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rítica, buscar información, comunicarl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lara, ser responsable y trabajar en equip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56760" y="356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e8d6"/>
                </a:solidFill>
                <a:latin typeface="Times New Roman"/>
                <a:ea typeface="Times New Roman"/>
              </a:rPr>
              <a:t>Como ejercicio final, responde las siguientes cuestiona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Te sientes satisfecho con la calidad final del informe que has o habéis elaborad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podrías haber hecho para mejorar su cal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relacionadas anteriormente crees que has mejorado más al hacer est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tendrías que concentrarte para mejorar en el futur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tareas te han ayudado a desarrollar las habilidades que te han sido necesarias a lo largo de l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valorarías tu trabajo? Detalla ejemplos que justifiquen tu valoració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Crédi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z un listado de las fuentes y de los recursos que h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do para el diseño de la WebQuest ,ya sean est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ágenes, bibliografía, enlaces, et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puedes expresar aquí agradecimientos a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s, instituciones o entidades que tu conside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s ofrecer también una lista de referenci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áficas o de cualquier otro tipo de recurso 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o analógico que igualmente hayas utilizado o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 utilizar como fuente de informació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10 Diagrama" descr=""/>
          <p:cNvPicPr/>
          <p:nvPr/>
        </p:nvPicPr>
        <p:blipFill>
          <a:blip r:embed="rId1"/>
          <a:stretch/>
        </p:blipFill>
        <p:spPr>
          <a:xfrm>
            <a:off x="378000" y="420840"/>
            <a:ext cx="85946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87134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icio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49976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pocos meses que trabajamos en CRA, es un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centro de  genét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ofrece consejo  a parejas qu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an  tener hijos y que aplican técnicas d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ción asistida para ayudar a aquellas que  tien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s de esterili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CRA, ha asistido  una pareja que dese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soramiento sobre su futuro  hija/o libr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ermedades genéticas, ya que tienen  antecedent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es de Síndrome de Down y  hemofil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troduc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400" y="142884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departamento de genética, a cuál pertenecemos, n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enviado los historiales médicos y una  muestr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gre, de ambos progenitores, para que  realicemos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exhaustivo para informar a la  pareja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ilidades de tener una niña/o  sana/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tener en cuenta que este informe se realizará 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po, por  lo que todos los miembros deben estar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ectados y  trabajar en un  documento en línea,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ail del au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92d05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16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estro objetivo es realizar dicho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informe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lla  en el apartado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reunión que tendréis con la pareja, dentr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quince días , hay  que entregar una copia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y donde se resolverán las dudas que se l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een durante  la exposición del informe. Además, tenéis que entregar una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copia 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upervisor,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 nuestro supuesto es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el profeso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f00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Proces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320" y="178452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pareja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 joven, tienen 32 y 28 años, Marta 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.Vienen porque Marta está embarazada de 1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nas y   están preocupados, porque Marta tiene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ano   pequeño, David, que tiene el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índrom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u  madre  María  lo tuvo a los 43 años.  El padr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hermano de  Marta son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altónicos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ella y su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re no lo s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uanto a Juan, no es  daltónico, pero sí padec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hemofili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 padre, Pedro, también la pade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99680" y="49968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Quieren sabe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a partir del cariotipo del embrión y que técnica se emplearía para ell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u hijo/a podría tener también este síndrome ya que han oído que eso puede pasar si tienen los dos cromosomas 21 unidos, pero no acaban de entender qué significa est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l niño/a será daltónico y/o padecerá hemofil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centro habéis decidido hacerles el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iotip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l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nitores. Los resultados están en las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figuras 1 y 2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cariotipoxx.gif"/>
          <p:cNvPicPr/>
          <p:nvPr/>
        </p:nvPicPr>
        <p:blipFill>
          <a:blip r:embed="rId1"/>
          <a:stretch/>
        </p:blipFill>
        <p:spPr>
          <a:xfrm>
            <a:off x="642960" y="714240"/>
            <a:ext cx="4048200" cy="5286600"/>
          </a:xfrm>
          <a:prstGeom prst="rect">
            <a:avLst/>
          </a:prstGeom>
          <a:ln w="0">
            <a:noFill/>
          </a:ln>
        </p:spPr>
      </p:pic>
      <p:pic>
        <p:nvPicPr>
          <p:cNvPr id="389" name="5 Imagen" descr="cariotipoxy.gif"/>
          <p:cNvPicPr/>
          <p:nvPr/>
        </p:nvPicPr>
        <p:blipFill>
          <a:blip r:embed="rId2"/>
          <a:stretch/>
        </p:blipFill>
        <p:spPr>
          <a:xfrm>
            <a:off x="4786200" y="714240"/>
            <a:ext cx="404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56760" y="42840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Les tenéis que explicar</a:t>
            </a:r>
            <a:r>
              <a:rPr b="0" lang="es-E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é sirv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iagnóstico prenat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ómo se hace y  si se recomienda  hacer un diagnóstico  a su hijo/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usa d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síndrome de 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¿Qué pasaría si los dos cromosomas 21 estuviesen unidos?. ¿Qué es un cariotipo? y explicarles si sus cariotipos son normales o presentan alguna anomalí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 de su hijo/a  y que técnicas se emplearían para ello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funciona la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eterminación del sex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especie human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1:14:30Z</dcterms:created>
  <dc:creator>Sisa</dc:creator>
  <dc:description/>
  <dc:language>en-US</dc:language>
  <cp:lastModifiedBy>Sisa</cp:lastModifiedBy>
  <dcterms:modified xsi:type="dcterms:W3CDTF">2010-04-04T08:49:03Z</dcterms:modified>
  <cp:revision>24</cp:revision>
  <dc:subject/>
  <dc:title>Diapositiva 1</dc:title>
</cp:coreProperties>
</file>