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7CEA-21B5-4D5F-B73C-834F24313D56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6C49-7D11-47B0-9160-86566FAE4213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E1F1-3604-4B0A-80E4-722DD73ACEE3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9ABC-A165-4F21-8741-A11673A1F588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4995-4A87-4169-8581-7ED29FAF868D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D940-8226-4F12-B63B-42F11C14290E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32E2-6A3D-42B2-95F1-8CE37EF61350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A91E-7997-4CAD-B5B8-9876BA536DB9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C2E1-1C3E-49A4-B43B-73677AE28BB6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2445-BA34-4BB6-965A-56995630FF11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0E53-586E-4525-B3EA-B474013D863A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8D82-7622-4E37-98F3-4303940FD4E7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FECD-E855-4431-A8D8-B7B4C06509A2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8B39-5430-4D19-BA72-84A60CA6B688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149A-013F-4300-B109-7042085BA010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012B-CCFC-45F3-AB17-D04A3EF62D9D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4264-5321-4459-A9CE-8A2FACC31A11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B326-7B43-4628-8BC4-9C691DFBCCCF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FCFE-F832-43A8-8DE9-B331AD5D1F8C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D1B-9CA4-4D48-B800-FB307047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C29-035B-4ADC-9199-DC907BB5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8D7-358E-46A0-8602-F2E34DB6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CC8-922B-4A89-86B4-932FF096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16BF-5632-4605-93EE-1EDF9B59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B607-760B-4FF2-A580-37A7BA73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5998-E42F-4BAB-83D8-F926EE95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DCDA-FE61-4133-B824-1B050865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5A46-89C3-4F78-8F72-DF414FAA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C3BA-6804-44BF-A130-E48A75B7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A9BE-6499-4CAE-AF3B-9876EBAF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9CF-01D0-4978-9B88-773B5645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E238-5313-407B-B14E-63538453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2CBD-AD48-4A62-9F2D-25048C2C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4F13-615E-41C5-8488-ECF2B495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57C7-41D0-4B1F-9437-D2923A56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746A-1D42-4384-9B56-2B757838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1313E-E250-474F-BB50-43720A31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3545E-EC90-479F-95E4-0E126EEC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5E0D-0112-4244-AE7E-028D4BE6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59AD-9931-47B5-ADFC-3E305215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00084-73B3-463A-B6D7-929DE220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5D5-0AB7-46D8-80AD-68385F22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D59AA-E6CB-44CF-AD41-4A36C12F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902FE-FBA3-4698-B0A8-49A4E9DB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68DB2-73BF-4A0B-AB3C-4BB3F771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64C1-7D5C-4CBF-BBF2-2E2BB8FB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5D9C-D246-449A-911B-7BCCFB66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E49F-4BBE-4C49-973F-D23C395C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4FC3-5DBA-48E2-93E5-1E27D8B7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CFC79-9421-408B-B97D-174B2914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AD003-F731-40E3-B21D-80DA457C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B01C8-D3A4-458F-A802-5F553DD7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67F-DCD0-4811-898A-7EF34D14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C3AAD-8FD1-4A91-892C-8BE84DD5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04B49-DE94-4E41-843F-1F5CA2FD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6B287-6E3A-4B0B-9B00-233BFE86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5BB12-4501-4B46-A159-FEE5A942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C4B6E-1703-45D9-9CD9-6585482C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FD154-ED9D-4C56-8E0F-42C5320C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E21C6-EA6E-47F8-B65B-A062B339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21EF4-1DDC-4BC6-AEE5-E88F1E19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90B81-A07A-4B8C-BA48-077940AD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FDDE0-5A8E-45CA-B468-F96EEA4A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C73-E8B5-4CB7-B7E5-AABB42A0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A81EE-23CB-4A72-94BB-73A57056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3206F-F919-460E-8E0C-8DBD3861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02257-6802-4E39-83DA-8DDD06B9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8F793-23CE-44D2-8A1D-55FC9550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F74B5-7C22-49F2-8AA2-CB766939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20345-1395-4D6B-9DD7-C5D6CB36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035BA-BDDB-43A1-A8C9-ECCC5487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19011-BA3B-45E3-9DDB-E259754A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2D992-B69D-4432-99F5-6E694408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D25E0-C418-4B83-B85D-E0CC5C8F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1C7-BE4C-443E-BCE2-DDC88277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47C60-F8B2-4032-AAAC-51CBDDF2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B8809-3325-4D6D-B9D6-DCFD6395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C6B50-7B06-4E95-AD65-B3169B7C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80DA7-E551-45B1-868A-C52FAAC7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5DA6F-2425-478E-B567-5E6F30BC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CD88E-8A95-487A-9B6F-5DDFD417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A8F28-CCD5-4BD4-8B3D-7A3F45AD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488D7-CAF3-47F2-BAA2-11A33F7C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E7E6B-AD60-4346-BE97-24F83ACD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9EDED-5436-453B-B375-2684F87D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535-5749-430A-ACFB-2C5501CA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140B7-7166-470C-8671-E40931D8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53020-12A3-4F44-B3F0-F613799C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72175-6000-4311-A036-B0790E19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2CA22-C990-4533-B052-6646B5F1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5F1E2-C4D6-43E9-BB86-4DB07E9D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4A4E8-BEDB-42D6-AD4F-2C1F90D4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15BD2-CC1E-4482-98A8-A8F9E3C7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9B694-D53D-49A8-9BC6-27972C19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5A196-F59E-4F31-81F5-F36F7B7C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28F7B-B84F-4B17-8DC3-0E4C9223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ACE-59F6-4A98-A903-66AD6496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63314-438D-4D68-ADFF-74D0EB0F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D02C0-9C8F-4610-A8B2-048801D8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74052-75F8-44D8-B659-0FCE2F44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FD518-305A-409A-9D5A-39DA79B8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60AE1-9B17-4484-BD0A-F1624B40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DFE-8191-410F-86B6-49846265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EEA9-EF93-4153-AB9D-906CD645EE4D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A6D7-95E0-45D0-965A-AA7D8654434F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8930-0C05-47F1-B7AD-AA34A6225206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B28E-D538-4593-83C8-E16835114739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4F34-EED7-4794-9398-A9CE62340120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B485-9982-4D35-BD46-88F4AA714A7C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20 Conector recto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26 Conector recto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30 Conector recto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B63A-44E7-429F-BC97-FA1EB6D47F04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fn.uncor.edu/dep/biologia/intrbiol/indgen.htm" TargetMode="External"/><Relationship Id="rId2" Type="http://schemas.openxmlformats.org/officeDocument/2006/relationships/hyperlink" Target="http://www.efn.uncor.edu/dep/biologia/intrbiol/indgen.htm" TargetMode="External"/><Relationship Id="rId3" Type="http://schemas.openxmlformats.org/officeDocument/2006/relationships/hyperlink" Target="http://lagenetica.info/" TargetMode="External"/><Relationship Id="rId4" Type="http://schemas.openxmlformats.org/officeDocument/2006/relationships/hyperlink" Target="http://www.juntadeandalucia.es/averroes/concurso2006/ver/26/genetica1.html" TargetMode="External"/><Relationship Id="rId5" Type="http://schemas.openxmlformats.org/officeDocument/2006/relationships/hyperlink" Target="http://www.edunexos.edu.co/webquest/" TargetMode="External"/><Relationship Id="rId6" Type="http://schemas.openxmlformats.org/officeDocument/2006/relationships/hyperlink" Target="http://webquest.wordpress.com/2007/11/01/genetica-humana/" TargetMode="External"/><Relationship Id="rId7" Type="http://schemas.openxmlformats.org/officeDocument/2006/relationships/hyperlink" Target="http://www.geocities.com/...mendel.htm" TargetMode="External"/><Relationship Id="rId8" Type="http://schemas.openxmlformats.org/officeDocument/2006/relationships/hyperlink" Target="http://html.rincondelvago.com/leyes-de-mendel.html" TargetMode="External"/><Relationship Id="rId9" Type="http://schemas.openxmlformats.org/officeDocument/2006/relationships/hyperlink" Target="http://www.infobide.com/quiron/genetica.html" TargetMode="External"/><Relationship Id="rId10" Type="http://schemas.openxmlformats.org/officeDocument/2006/relationships/hyperlink" Target="http://www.ivi.es/" TargetMode="External"/><Relationship Id="rId11" Type="http://schemas.openxmlformats.org/officeDocument/2006/relationships/hyperlink" Target="http://www.nlm.nih.gov/medlineplus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ca.es/huesped/down/introdown.htm" TargetMode="External"/><Relationship Id="rId2" Type="http://schemas.openxmlformats.org/officeDocument/2006/relationships/hyperlink" Target="http://www.fcsd.org/cas/forums/faq.htm" TargetMode="External"/><Relationship Id="rId3" Type="http://schemas.openxmlformats.org/officeDocument/2006/relationships/hyperlink" Target="http://www.sindromedown.net/web2/sindrome.asp" TargetMode="External"/><Relationship Id="rId4" Type="http://schemas.openxmlformats.org/officeDocument/2006/relationships/hyperlink" Target="http://www.nichd.nih.gov/publications/pubs/downsyndrome/down-sp.htm" TargetMode="External"/><Relationship Id="rId5" Type="http://schemas.openxmlformats.org/officeDocument/2006/relationships/hyperlink" Target="http://www.down21.org/" TargetMode="External"/><Relationship Id="rId6" Type="http://schemas.openxmlformats.org/officeDocument/2006/relationships/hyperlink" Target="http://www.nlm.nih.gov/medlineplus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6 Marcador de contenido" descr="ecografia4d.jpg"/>
          <p:cNvPicPr/>
          <p:nvPr/>
        </p:nvPicPr>
        <p:blipFill>
          <a:blip r:embed="rId1"/>
          <a:stretch/>
        </p:blipFill>
        <p:spPr>
          <a:xfrm>
            <a:off x="428760" y="0"/>
            <a:ext cx="871524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4829040" cy="914400"/>
          </a:xfrm>
          <a:prstGeom prst="rect">
            <a:avLst/>
          </a:prstGeom>
          <a:solidFill>
            <a:srgbClr val="2c3f7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HIJOS A LA CAR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28400" y="642600"/>
            <a:ext cx="8186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ómo se puede escoger el sexo del embrión y qué implicaría su selección.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qué casos la ley permite escoger el sexo del futuro embrió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ómo se transmite el </a:t>
            </a:r>
            <a:r>
              <a:rPr b="0" lang="es-ES" sz="2800" spc="-1" strike="noStrike">
                <a:solidFill>
                  <a:srgbClr val="f87134"/>
                </a:solidFill>
                <a:latin typeface="Times New Roman"/>
                <a:ea typeface="Times New Roman"/>
              </a:rPr>
              <a:t>daltonismo y la hemofilia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é es la herencia ligada al sexo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r el árbol genealógico  familiar para cada enfermedad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é probabilidades tiene el hijo/a que esperan de ser daltónico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é probabilidades tiene el hijo/a que esperan de ser hemofílico.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92880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Recurs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71320" y="128592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s básicos de genética: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/>
              </a:rPr>
              <a:t>Conceptos de genética  </a:t>
            </a: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2"/>
              </a:rPr>
              <a:t>http://www.efn.uncor.edu/dep/biologia/intrbiol/indgen.htm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ética human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La genética al alcance de todos </a:t>
            </a:r>
            <a:r>
              <a:rPr b="0" lang="es-ES" sz="1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3"/>
              </a:rPr>
              <a:t>http://lagenetica.info/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4"/>
              </a:rPr>
              <a:t>http://www.juntadeandalucia.es/averroes/concurso2006/ver/26/genetica1.html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5"/>
              </a:rPr>
              <a:t>http://www.edunexos.edu.co/webquest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6"/>
              </a:rPr>
              <a:t>http://webquest.wordpress.com/2007/11/01/genetica-humana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yes de Mend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7"/>
              </a:rPr>
              <a:t>http://www.geocities.com/...mendel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8"/>
              </a:rPr>
              <a:t>http://html.rincondelvago.com/leyes-de-mendel.htm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ción sobre técnicas de reproducción asistida, cariotipos, diagóstico prenatal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9"/>
              </a:rPr>
              <a:t>http://www.infobide.com/quiron/genetica.htm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0"/>
              </a:rPr>
              <a:t>http://www.ivi.es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1"/>
              </a:rPr>
              <a:t>http://www.nlm.nih.gov/medlineplus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99680" y="285480"/>
            <a:ext cx="79153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ción sobre el síndrome de Down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http://www.uca.es/huesped/down/introdown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http://www.fcsd.org/cas/forums/faq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http://www.sindromedown.net/web2/sindrome.asp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http://www.nichd.nih.gov/publications/pubs/downsyndrome/down-sp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http://www.down21.org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rbel"/>
              </a:rPr>
              <a:t>Información sobre la hemofili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6"/>
              </a:rPr>
              <a:t>http://www.nlm.nih.gov/medlineplus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rbel"/>
              </a:rPr>
              <a:t>Información sobre el genoma humano y el cariotipo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ww.monografias.co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ww.edunexos.edu.co/webquest/wq2.5/webquest/soporte_derecha_w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rbel"/>
              </a:rPr>
              <a:t>Selección del sexo de los embriones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ww.dexeus.com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ww.cnice.mecd.es/tematicas/genetica/2003_10/2003_10_00.htm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mujer.terra.es/muj/articulo/html/mu24324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rbel"/>
              </a:rPr>
              <a:t>Cuestion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eb.educastur.princast.es/proyectos/biogeo_ov/4a_ESO/06_genetica/problemas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914400"/>
          </a:xfrm>
          <a:prstGeom prst="rect">
            <a:avLst/>
          </a:prstGeom>
          <a:solidFill>
            <a:srgbClr val="138677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2060"/>
                </a:solidFill>
                <a:latin typeface="Consolas"/>
              </a:rPr>
              <a:t>Evalua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85840" y="1143000"/>
            <a:ext cx="885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1.-Uso de la tecnologí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ta las páginas de internet propuestas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ta las páginas de internet propuestas y toma nota de la información de interés, participa en la wiki 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iene un buen rendimiento de internet, anota las páginas visitadas y algunos recursos adicionales de interés. Participa en la wiki y en el blog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iene muy buen rendimiento de internet, anota las páginas visitadas que le han sido útiles y encuentra recursos adicionales de interés. Participa en la wiki, en el blog y en el doc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2.- Realización de la tare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 el informe y no interviene en el trabajo del resto del grupo. El informe contiene algunos errores que se podrían haber evitado contrastando el trabajo con el de los compañeros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 el informe y al menos la parte del trabajo individual que le corresponde dentro del grupo. No interviene con el trabajo de los compañeros. Los informes responden la mayor parte de las preguntas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28760" y="142920"/>
            <a:ext cx="85010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abora con los compañeros y facilita el trabajo conjunto. Los informes responden todas las preguntas y se han entregado dentro del plazo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baja con responsabilidad y se asegura de que su trabajo individual esté coordinado con el del grupo. Comparte sus progresos con los compañeros. Los informes no contienen errores, responden todas las preguntas y se han entregado dentro del plazo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3.- Trabajo en equip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baja en grupo y no intenta hacer el trabajo solo. Observa la elaboración y revisión de los informes pero no participa activamente en las discusiones….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ipa en las discusiones durante la elaboración y revisión de los informes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ipa en la organización del equipo y anima a los demás. Se concentra en el trabajo y en los plazos propuestos y contribuye a la elaboración y revisión de los informes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ipa en la organización del equipo. Da y recibe sugerencias para ayudar o recibir ayuda de los demás. Mantiene una actitud positiva y contribuye muy activamente en la elaboración y revisión de los informes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642960" y="42840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4.-Inform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 el informe y responde las preguntas 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 el informe Responde bien la mayor parte de las preguntas  y elabora la conclusión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e un buen informe y una buena conclusión.Cita las referencias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informes y la conclusión son correctos y están bien razonados.Cita todas las referencias consultadas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5.- Cuestion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de a la  página de cuestiones, pero no responde adecuadamente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de a la  página de cuestiones, pero responde adecuadamente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de a la  página de cuestiones y responde  muy adecuadamente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de a la  página de cuestiones y responden satisfactoriamente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ara que el supervisor considere satisfactorio el informe se debe alcanzar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de los 20 puntos, al menos 15 puntos 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772400" cy="9144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Conclus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8760" y="128556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supuesto y los problemas planteados te ha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yudado a comprender un poco mejor cómo funciona la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ética humana. Además, has utilizado algunas de l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ramientas web 2.0, donde   has tenido la oportunidad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opinar sobre cuestiones polémicas como escoger e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o  de los hijos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elaborar el informe, has tenido que pensar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era crítica, buscar información, comunicarla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era clara, ser responsable y trabajar en equip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56760" y="356760"/>
            <a:ext cx="8643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fe8d6"/>
                </a:solidFill>
                <a:latin typeface="Times New Roman"/>
                <a:ea typeface="Times New Roman"/>
              </a:rPr>
              <a:t>Como ejercicio final, responde las siguientes cuestionari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Te sientes satisfecho con la calidad final del informe que has o habéis elaborado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Qué podrías haber hecho para mejorar su calidad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En qué habilidades relacionadas anteriormente crees que has mejorado más al hacer esta actividad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En qué habilidades tendrías que concentrarte para mejorar en el futuro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Qué tareas te han ayudado a desarrollar las habilidades que te han sido necesarias a lo largo de la actividad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Cómo valorarías tu trabajo? Detalla ejemplos que justifiquen tu valoració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914400"/>
          </a:xfrm>
          <a:prstGeom prst="rect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Crédit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99680" y="1428840"/>
            <a:ext cx="8358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z un listado de las fuentes y de los recursos que h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ado para el diseño de la WebQuest ,ya sean esto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ágenes, bibliografía, enlaces, etc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puedes expresar aquí agradecimientos a l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s, instituciones o entidades que tu consider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rtun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s ofrecer también una lista de referenci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gráficas o de cualquier otro tipo de recurso o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o analógico que igualmente hayas utilizado o s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a utilizar como fuente de informació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8" name="10 Diagrama" descr=""/>
          <p:cNvPicPr/>
          <p:nvPr/>
        </p:nvPicPr>
        <p:blipFill>
          <a:blip r:embed="rId1"/>
          <a:stretch/>
        </p:blipFill>
        <p:spPr>
          <a:xfrm>
            <a:off x="378000" y="420840"/>
            <a:ext cx="859464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87134"/>
          </a:solidFill>
          <a:ln w="76320">
            <a:solidFill>
              <a:srgbClr val="7030a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Inicio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49976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e pocos meses que trabajamos en CRA, es un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273af"/>
                </a:solidFill>
                <a:latin typeface="Times New Roman"/>
                <a:ea typeface="Times New Roman"/>
              </a:rPr>
              <a:t>centro de  genétic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ofrece consejo  a parejas qu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an  tener hijos y que aplican técnicas de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oducción asistida para ayudar a aquellas que  tiene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as de esterilidad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CRA, ha asistido  una pareja que desea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esoramiento sobre su futuro  hija/o libre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ermedades genéticas, ya que tienen  antecedent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es de Síndrome de Down y  hemofili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914400"/>
          </a:xfrm>
          <a:prstGeom prst="rect">
            <a:avLst/>
          </a:prstGeom>
          <a:solidFill>
            <a:srgbClr val="ffff00"/>
          </a:solidFill>
          <a:ln w="76320">
            <a:solidFill>
              <a:srgbClr val="7030a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Introduc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28400" y="1428840"/>
            <a:ext cx="871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departamento de genética, a cuál pertenecemos, no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 enviado los historiales médicos y una  muestra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gre, de ambos progenitores, para que  realicemos u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e exhaustivo para informar a la  pareja de l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bilidades de tener una niña/o  sana/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que tener en cuenta que este informe se realizará e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po, por  lo que todos los miembros deben estar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ectados y  trabajar en un  documento en línea,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 de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mail del au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92d05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Tare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71680" y="1714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uestro objetivo es realizar dicho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informe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lla  en el apartado </a:t>
            </a:r>
            <a:r>
              <a:rPr b="0" lang="es-ES" sz="2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proces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reunión que tendréis con la pareja, dentro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quince días , hay  que entregar una copia de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e y donde se resolverán las dudas que se l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teen durante  la exposición del informe. Además, tenéis que entregar una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copia a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supervisor,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n nuestro supuesto es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el profesor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f00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Proces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71320" y="1784520"/>
            <a:ext cx="84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pareja</a:t>
            </a:r>
            <a:r>
              <a:rPr b="0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 joven, tienen 32 y 28 años, Marta y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an .Vienen porque Marta está embarazada de 12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nas y   están preocupados, porque Marta tiene u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ano   pequeño, David, que tiene el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síndrome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Dow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u  madre  María  lo tuvo a los 43 años.  El padr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hermano de  Marta son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daltónicos</a:t>
            </a:r>
            <a:r>
              <a:rPr b="0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nque ella y su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re no lo so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uanto a Juan, no es  daltónico, pero sí padece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hemofilia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u padre, Pedro, también la padec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99680" y="499680"/>
            <a:ext cx="83581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Quieren sabe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se puede saber el sexo a partir del cariotipo del embrión y que técnica se emplearía para ell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su hijo/a podría tener también este síndrome ya que han oído que eso puede pasar si tienen los dos cromosomas 21 unidos, pero no acaban de entender qué significa esto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l niño/a será daltónico y/o padecerá hemofili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centro habéis decidido hacerles el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iotipo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lo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enitores. Los resultados están en las </a:t>
            </a:r>
            <a:r>
              <a:rPr b="0" lang="es-ES" sz="2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figuras 1 y 2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4 Marcador de contenido" descr="cariotipoxx.gif"/>
          <p:cNvPicPr/>
          <p:nvPr/>
        </p:nvPicPr>
        <p:blipFill>
          <a:blip r:embed="rId1"/>
          <a:stretch/>
        </p:blipFill>
        <p:spPr>
          <a:xfrm>
            <a:off x="642960" y="714240"/>
            <a:ext cx="4048200" cy="5286600"/>
          </a:xfrm>
          <a:prstGeom prst="rect">
            <a:avLst/>
          </a:prstGeom>
          <a:ln w="0">
            <a:noFill/>
          </a:ln>
        </p:spPr>
      </p:pic>
      <p:pic>
        <p:nvPicPr>
          <p:cNvPr id="389" name="5 Imagen" descr="cariotipoxy.gif"/>
          <p:cNvPicPr/>
          <p:nvPr/>
        </p:nvPicPr>
        <p:blipFill>
          <a:blip r:embed="rId2"/>
          <a:stretch/>
        </p:blipFill>
        <p:spPr>
          <a:xfrm>
            <a:off x="4786200" y="714240"/>
            <a:ext cx="4048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56760" y="428400"/>
            <a:ext cx="85726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Les tenéis que explicar</a:t>
            </a:r>
            <a:r>
              <a:rPr b="0" lang="es-E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qué sirve el </a:t>
            </a:r>
            <a:r>
              <a:rPr b="0" lang="es-ES" sz="2800" spc="-1" strike="noStrike">
                <a:solidFill>
                  <a:srgbClr val="f87134"/>
                </a:solidFill>
                <a:latin typeface="Times New Roman"/>
                <a:ea typeface="Times New Roman"/>
              </a:rPr>
              <a:t>diagnóstico prenata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ómo se hace y  si se recomienda  hacer un diagnóstico  a su hijo/a.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ausa del </a:t>
            </a:r>
            <a:r>
              <a:rPr b="0" lang="es-ES" sz="2800" spc="-1" strike="noStrike">
                <a:solidFill>
                  <a:srgbClr val="f87134"/>
                </a:solidFill>
                <a:latin typeface="Times New Roman"/>
                <a:ea typeface="Times New Roman"/>
              </a:rPr>
              <a:t>síndrome de Dow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¿Qué pasaría si los dos cromosomas 21 estuviesen unidos?. ¿Qué es un cariotipo? y explicarles si sus cariotipos son normales o presentan alguna anomalía.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se puede saber el sexo  de su hijo/a  y que técnicas se emplearían para ello 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ómo funciona la </a:t>
            </a:r>
            <a:r>
              <a:rPr b="0" lang="es-ES" sz="2800" spc="-1" strike="noStrike">
                <a:solidFill>
                  <a:srgbClr val="f87134"/>
                </a:solidFill>
                <a:latin typeface="Times New Roman"/>
                <a:ea typeface="Times New Roman"/>
              </a:rPr>
              <a:t>determinación del sexo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especie human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21:14:30Z</dcterms:created>
  <dc:creator>Sisa</dc:creator>
  <dc:description/>
  <dc:language>en-US</dc:language>
  <cp:lastModifiedBy>Sisa</cp:lastModifiedBy>
  <dcterms:modified xsi:type="dcterms:W3CDTF">2010-04-04T08:49:03Z</dcterms:modified>
  <cp:revision>24</cp:revision>
  <dc:subject/>
  <dc:title>Diapositiva 1</dc:title>
</cp:coreProperties>
</file>