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0DC3-D6F4-4A60-891E-4922592A2AB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E307-9A85-4639-B515-0A2AEB0906D2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175D-2D98-4747-B6C6-2AAF45F33FF3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4E17-3C00-436F-BC0E-78704BD0FF5E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3C91-2BA4-4D09-A306-684285D7A3AA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6431-6FEA-460C-984A-85EF11B0D03F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173E-8E41-475D-AA3D-FDD8AB16C739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0AFD-D315-434E-9C7F-42AA0533621A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8FB2-AF8B-4E60-B09D-4BEDC01D88C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F1EB-D2CE-4925-8FF7-5729C7C76D7C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667A-6007-4E5C-A07B-C691C14B0B36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10CD-7CF3-40A9-BA66-CBFDB46297D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D72F-0DD6-48DE-95B3-09B1D77A7F6F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CCD7-BB09-46E7-945C-01DFB02F4333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6F37-E943-482D-B1A7-D7F94BCDB783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CADE-0B95-4D0C-9933-2F5C7DC8F011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A5D2-DD01-4F8A-876C-8628E7ECE4CF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421A-2C49-4199-9548-1E619584680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9F23-9CBA-43E6-A527-B423533954C7}" type="slidenum">
              <a:rPr b="0" lang="es-ES_trad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C9D-C3B9-482B-BD24-B88A1CC8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69C-372F-41A2-B5C6-3BFBE29D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2FB-2102-4E18-B7B9-A2CCF053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124-B0BC-4C42-B084-DCB995CE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BAA3-DA0F-45AC-BFA5-86399913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836D-E24A-402E-B319-D60A8250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5C29-3C03-438C-B183-34BF776E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2811-5582-4FA2-935F-C149B85C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EED3-060F-4DBC-A23E-A0CCD6EB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E3EF-C911-430F-87E4-FE0BEC3E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A5D5-0BFE-492D-A9BA-E9346189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4AA-F649-4140-9C93-9497929E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D31C-8280-470E-A40A-0A76E4F5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1BF1-652A-4241-87C3-4E81687C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4076-E2F4-45F2-8B13-54C18F2C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EDD2-DA03-4A11-A591-FA97A104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0B58-7B1F-48F3-91C3-6A4FA749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39B3C-2369-4C31-B346-5CBF559E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8E537-8C10-4D86-8FCF-8B466DBF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34BA9-68D0-40AA-B043-8EB88691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E22B-BB75-4475-9434-9B7ACBF6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086C-ADD6-4BC4-A621-A7163354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A79-A3BA-4860-ACB7-E59EFE2C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CCF66-B047-4881-B1D0-1EAD3790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048AF-E69B-4A85-A820-C02591DB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A6F1C-C9CE-4CCB-A8B9-854B3F4A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AA6B7-4356-452A-BC01-08470E0F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AEEA4-FC31-4004-A2D9-13DB92CA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2125-1F67-4783-8EBC-9A6AEFFD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57B5-F976-45F5-81D0-B00BE1CE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ADDA0-C580-4429-9044-C2E0FF3F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965A3-4F6E-494C-8C06-428DBB0B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E76A4-DF90-459B-B8B2-5EB40734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D0B-0287-46ED-A749-72BBFE2D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97699-EB92-45D4-AA83-40EC07B8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3650D-DB34-4BCC-A552-6F103A84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09420-F80E-48CF-81C5-4B75C1F6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F63C-98BE-4B05-85B5-C4510264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57CEE-43D9-45C6-8A31-0FCB5198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839F9-F53F-4EB9-99B8-364E7512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587A7-A8FC-41A6-BF52-8292E646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055BF-76CB-4910-B2EF-56F2C5E3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F646C-874C-43F8-B47F-1005E30A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52146-BAFA-4DB2-A3A5-59C2BB1C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06E-AB95-47B3-991E-B29ECFA6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29631-F289-4CA3-A557-D4B9EC98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374BD-2B5B-450F-A34C-BC3ECC63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D763-2A43-4122-A16B-4E9FAE17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8F5FD-C70B-43C6-9A6A-8121F4A8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94AFC-EDC6-4CCC-B717-FC037C47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33377-EC8E-426C-AAC5-34AEB591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C53B8-98D6-42A0-AE87-92A2A452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FB2B3-F749-4FA7-B5F7-75C2D8C1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34C98-7EC1-4B9E-8916-B3B0E823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A4AA5-2A09-4CDC-B732-12DE20F8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2E03-18F9-428B-A586-3C1F93A3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A5937-A236-4BAA-8499-3E417619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7D702-CBA3-458E-B6F8-C6104B59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CE50B-25E4-47EB-8821-39DB778F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F363C-7494-4893-8C82-D8ACBE9A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C00BC-33BA-4A10-A0AC-39D4CA5E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6483D-A02B-4F4F-9014-D8BB3884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0BB1F-BE35-4989-96FB-43D57BD3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A2A53-FAB1-4F72-942D-36E477CD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AF311-F815-4BB6-A439-80C77D56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DE2E4-E7A6-4798-981A-E58E6C81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D28-2850-4FE0-A005-4837C6D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54C2C-E641-476B-8831-9ACD31B7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74ED-D87A-4EED-90F2-B4DA4A40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FA45D-49EB-46D9-9FD4-D04279C3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BB193-199A-4236-A9A1-485A0B3E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FC57C-67F0-446B-968E-CE348ECA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5758A-330F-4BD4-AC86-962EC7D5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36A8E-EAE2-4FFA-9803-EA517BBD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D90A3-002E-4F29-A6B6-37BC7078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86CCE-51C8-4DF0-ADDD-C8843A37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86F16-CFE4-4990-A52B-B8995C42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E93-04BA-4986-8970-F1F6D3C8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7458C-4307-4764-AC2E-C4646872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F2EBB-9117-4826-A8A3-389D31A0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2BF00-1548-4040-B7F3-A9A68D2B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E0B27-7AD9-4A76-8D70-639595CA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8ADA3-C3BD-4316-BD2B-E03461AE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C24-43D6-4BE8-8C91-9BBAC537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28BC-660E-4E79-ACF4-8AED704FC816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498D-E80F-4407-8E0D-85C261C97846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D65B-1334-4E2E-AC07-453CE39C57EA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F307-9C62-4EC0-9068-E0CA0E9C213E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9AD9-FDA6-480B-9672-174C37E0275A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7E91-90F8-48B3-A2FA-FFEB47AB96E6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19 Grupo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20 Conector recto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23 Conector recto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24 Conector recto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25 Grupo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26 Conector recto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27 Conector recto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28 Conector recto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29 Grupo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30 Conector recto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31 Conector recto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32 Conector recto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8576-8A02-4551-AE9F-9D12BA1475D2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fn.uncor.edu/dep/biologia/intrbiol/indgen.htm" TargetMode="External"/><Relationship Id="rId2" Type="http://schemas.openxmlformats.org/officeDocument/2006/relationships/hyperlink" Target="http://www.efn.uncor.edu/dep/biologia/intrbiol/indgen.htm" TargetMode="External"/><Relationship Id="rId3" Type="http://schemas.openxmlformats.org/officeDocument/2006/relationships/hyperlink" Target="http://lagenetica.info/" TargetMode="External"/><Relationship Id="rId4" Type="http://schemas.openxmlformats.org/officeDocument/2006/relationships/hyperlink" Target="http://www.juntadeandalucia.es/averroes/concurso2006/ver/26/genetica1.html" TargetMode="External"/><Relationship Id="rId5" Type="http://schemas.openxmlformats.org/officeDocument/2006/relationships/hyperlink" Target="http://www.edunexos.edu.co/webquest/" TargetMode="External"/><Relationship Id="rId6" Type="http://schemas.openxmlformats.org/officeDocument/2006/relationships/hyperlink" Target="http://webquest.wordpress.com/2007/11/01/genetica-humana/" TargetMode="External"/><Relationship Id="rId7" Type="http://schemas.openxmlformats.org/officeDocument/2006/relationships/hyperlink" Target="http://www.geocities.com/...mendel.htm" TargetMode="External"/><Relationship Id="rId8" Type="http://schemas.openxmlformats.org/officeDocument/2006/relationships/hyperlink" Target="http://html.rincondelvago.com/leyes-de-mendel.html" TargetMode="External"/><Relationship Id="rId9" Type="http://schemas.openxmlformats.org/officeDocument/2006/relationships/hyperlink" Target="http://www.infobide.com/quiron/genetica.html" TargetMode="External"/><Relationship Id="rId10" Type="http://schemas.openxmlformats.org/officeDocument/2006/relationships/hyperlink" Target="http://www.ivi.es/" TargetMode="External"/><Relationship Id="rId11" Type="http://schemas.openxmlformats.org/officeDocument/2006/relationships/hyperlink" Target="http://www.nlm.nih.gov/medlineplus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ca.es/huesped/down/introdown.htm" TargetMode="External"/><Relationship Id="rId2" Type="http://schemas.openxmlformats.org/officeDocument/2006/relationships/hyperlink" Target="http://www.fcsd.org/cas/forums/faq.htm" TargetMode="External"/><Relationship Id="rId3" Type="http://schemas.openxmlformats.org/officeDocument/2006/relationships/hyperlink" Target="http://www.sindromedown.net/web2/sindrome.asp" TargetMode="External"/><Relationship Id="rId4" Type="http://schemas.openxmlformats.org/officeDocument/2006/relationships/hyperlink" Target="http://www.nichd.nih.gov/publications/pubs/downsyndrome/down-sp.htm" TargetMode="External"/><Relationship Id="rId5" Type="http://schemas.openxmlformats.org/officeDocument/2006/relationships/hyperlink" Target="http://www.down21.org/" TargetMode="External"/><Relationship Id="rId6" Type="http://schemas.openxmlformats.org/officeDocument/2006/relationships/hyperlink" Target="http://www.nlm.nih.gov/medlineplus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6 Marcador de contenido" descr="ecografia4d.jpg"/>
          <p:cNvPicPr/>
          <p:nvPr/>
        </p:nvPicPr>
        <p:blipFill>
          <a:blip r:embed="rId1"/>
          <a:stretch/>
        </p:blipFill>
        <p:spPr>
          <a:xfrm>
            <a:off x="428760" y="0"/>
            <a:ext cx="871524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4829040" cy="914400"/>
          </a:xfrm>
          <a:prstGeom prst="rect">
            <a:avLst/>
          </a:prstGeom>
          <a:solidFill>
            <a:srgbClr val="2c3f7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HIJOS A LA CAR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28400" y="642600"/>
            <a:ext cx="8186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ómo se puede escoger el sexo del embrión y qué implicaría su selección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qué casos la ley permite escoger el sexo del futuro embrió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ómo se transmite el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daltonismo y la hemofilia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qué es la herencia ligada al sexo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r el árbol genealógico  familiar para cada enfermedad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é probabilidades tiene el hijo/a que esperan de ser daltónico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é probabilidades tiene el hijo/a que esperan de ser hemofílico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772400" cy="9288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Recurs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71320" y="128592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os básicos de genética: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Conceptos de genética  </a:t>
            </a: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2"/>
              </a:rPr>
              <a:t>http://www.efn.uncor.edu/dep/biologia/intrbiol/indgen.htm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ética human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La genética al alcance de todos </a:t>
            </a:r>
            <a:r>
              <a:rPr b="0" lang="es-ES" sz="1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3"/>
              </a:rPr>
              <a:t>http://lagenetica.info/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4"/>
              </a:rPr>
              <a:t>http://www.juntadeandalucia.es/averroes/concurso2006/ver/26/genetica1.html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5"/>
              </a:rPr>
              <a:t>http://www.edunexos.edu.co/webquest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6"/>
              </a:rPr>
              <a:t>http://webquest.wordpress.com/2007/11/01/genetica-humana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yes de Mend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7"/>
              </a:rPr>
              <a:t>http://www.geocities.com/...mendel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8"/>
              </a:rPr>
              <a:t>http://html.rincondelvago.com/leyes-de-mendel.htm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ción sobre técnicas de reproducción asistida, cariotipos, diagóstico prenatal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9"/>
              </a:rPr>
              <a:t>http://www.infobide.com/quiron/genetica.htm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0"/>
              </a:rPr>
              <a:t>http://www.ivi.es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1"/>
              </a:rPr>
              <a:t>http://www.nlm.nih.gov/medlineplus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99680" y="285480"/>
            <a:ext cx="79153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ción sobre el síndrome de Down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http://www.uca.es/huesped/down/introdown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2"/>
              </a:rPr>
              <a:t>http://www.fcsd.org/cas/forums/faq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3"/>
              </a:rPr>
              <a:t>http://www.sindromedown.net/web2/sindrome.asp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4"/>
              </a:rPr>
              <a:t>http://www.nichd.nih.gov/publications/pubs/downsyndrome/down-sp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5"/>
              </a:rPr>
              <a:t>http://www.down21.org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Información sobre la hemofili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b8803"/>
                </a:solidFill>
                <a:uFillTx/>
                <a:latin typeface="Corbel"/>
                <a:hlinkClick r:id="rId6"/>
              </a:rPr>
              <a:t>http://www.nlm.nih.gov/medlineplus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Información sobre el genoma humano y el cariotipo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monografias.co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edunexos.edu.co/webquest/wq2.5/webquest/soporte_derecha_w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Selección del sexo de los embriones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dexeus.com/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ww.cnice.mecd.es/tematicas/genetica/2003_10/2003_10_00.htm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mujer.terra.es/muj/articulo/html/mu24324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orbel"/>
              </a:rPr>
              <a:t>Cuestion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Corbel"/>
              </a:rPr>
              <a:t>http://web.educastur.princast.es/proyectos/biogeo_ov/4a_ESO/06_genetica/problemas.ht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914400"/>
          </a:xfrm>
          <a:prstGeom prst="rect">
            <a:avLst/>
          </a:prstGeom>
          <a:solidFill>
            <a:srgbClr val="138677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2060"/>
                </a:solidFill>
                <a:latin typeface="Consolas"/>
              </a:rPr>
              <a:t>Evalua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85840" y="114300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1.-Uso de la tecnologí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ta las páginas de internet propuesta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ta las páginas de internet propuestas y toma nota de la información de interés, participa en la wiki 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iene un buen rendimiento de internet, anota las páginas visitadas y algunos recursos adicionales de interés. Participa en la wiki y en el blog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iene muy buen rendimiento de internet, anota las páginas visitadas que le han sido útiles y encuentra recursos adicionales de interés. Participa en la wiki, en el blog y en el doc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2.- Realización de la tare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 el informe y no interviene en el trabajo del resto del grupo. El informe contiene algunos errores que se podrían haber evitado contrastando el trabajo con el de los compañero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a el informe y al menos la parte del trabajo individual que le corresponde dentro del grupo. No interviene con el trabajo de los compañeros. Los informes responden la mayor parte de las pregunta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28760" y="142920"/>
            <a:ext cx="85010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abora con los compañeros y facilita el trabajo conjunto. Los informes responden todas las preguntas y se han entregado dentro del plazo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baja con responsabilidad y se asegura de que su trabajo individual esté coordinado con el del grupo. Comparte sus progresos con los compañeros. Los informes no contienen errores, responden todas las preguntas y se han entregado dentro del plazo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3.- Trabajo en equip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baja en grupo y no intenta hacer el trabajo solo. Observa la elaboración y revisión de los informes pero no participa activamente en las discusiones….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 en las discusiones durante la elaboración y revisión de los informe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 en la organización del equipo y anima a los demás. Se concentra en el trabajo y en los plazos propuestos y contribuye a la elaboración y revisión de los informe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ipa en la organización del equipo. Da y recibe sugerencias para ayudar o recibir ayuda de los demás. Mantiene una actitud positiva y contribuye muy activamente en la elaboración y revisión de los informe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642960" y="42840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4.-Inform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 el informe y responde las preguntas 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 el informe Responde bien la mayor parte de las preguntas  y elabora la conclusión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 un buen informe y una buena conclusión.Cita las referencias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informes y la conclusión son correctos y están bien razonados.Cita todas las referencias consultadas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ea157a"/>
                </a:solidFill>
                <a:uFillTx/>
                <a:latin typeface="Times New Roman"/>
                <a:ea typeface="Times New Roman"/>
              </a:rPr>
              <a:t>5.- Cuestion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, pero no responde adecuadamente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, pero responde adecuadamente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 y responde  muy adecuadamente…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de a la  página de cuestiones y responden satisfactoriamente….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Para que el supervisor considere satisfactorio el informe se debe alcanzar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de los 20 puntos, al menos 15 puntos 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772400" cy="9144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Conclus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760" y="128556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supuesto y los problemas planteados te ha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yudado a comprender un poco mejor cómo funciona la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ética humana. Además, has utilizado algunas de l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ramientas web 2.0, donde   has tenido la oportunidad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opinar sobre cuestiones polémicas como escoger e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o  de los hijos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elaborar el informe, has tenido que pensar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ra crítica, buscar información, comunicarla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ra clara, ser responsable y trabajar en equip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56760" y="35676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fe8d6"/>
                </a:solidFill>
                <a:latin typeface="Times New Roman"/>
                <a:ea typeface="Times New Roman"/>
              </a:rPr>
              <a:t>Como ejercicio final, responde las siguientes cuestionari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Te sientes satisfecho con la calidad final del informe que has o habéis elaborado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Qué podrías haber hecho para mejorar su calida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En qué habilidades relacionadas anteriormente crees que has mejorado más al hacer esta activida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En qué habilidades tendrías que concentrarte para mejorar en el futuro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Qué tareas te han ayudado a desarrollar las habilidades que te han sido necesarias a lo largo de la activida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Cómo valorarías tu trabajo? Detalla ejemplos que justifiquen tu valoració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7772400" cy="914400"/>
          </a:xfrm>
          <a:prstGeom prst="rect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Crédit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99680" y="1428840"/>
            <a:ext cx="835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z un listado de las fuentes y de los recursos que h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ado para el diseño de la WebQuest ,ya sean esto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ágenes, bibliografía, enlaces, etc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puedes expresar aquí agradecimientos a l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s, instituciones o entidades que tu consider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rtun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s ofrecer también una lista de referenci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gráficas o de cualquier otro tipo de recurso o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o analógico que igualmente hayas utilizado o s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a utilizar como fuente de informació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8" name="10 Diagrama" descr=""/>
          <p:cNvPicPr/>
          <p:nvPr/>
        </p:nvPicPr>
        <p:blipFill>
          <a:blip r:embed="rId1"/>
          <a:stretch/>
        </p:blipFill>
        <p:spPr>
          <a:xfrm>
            <a:off x="378000" y="420840"/>
            <a:ext cx="85946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87134"/>
          </a:solidFill>
          <a:ln w="76320">
            <a:solidFill>
              <a:srgbClr val="7030a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Inicio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49976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ce pocos meses que trabajamos en CRA, es un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273af"/>
                </a:solidFill>
                <a:latin typeface="Times New Roman"/>
                <a:ea typeface="Times New Roman"/>
              </a:rPr>
              <a:t>centro de  genétic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ofrece consejo  a parejas qu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an  tener hijos y que aplican técnicas de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oducción asistida para ayudar a aquellas que  tiene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as de esterilidad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CRA, ha asistido  una pareja que desea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soramiento sobre su futuro  hija/o libre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ermedades genéticas, ya que tienen  antecedent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iares de Síndrome de Down y  hemofil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772400" cy="91440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Introduc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28400" y="1428840"/>
            <a:ext cx="8715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departamento de genética, a cuál pertenecemos, no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 enviado los historiales médicos y una  muestra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gre, de ambos progenitores, para que  realicemos u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e exhaustivo para informar a la  pareja de la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bilidades de tener una niña/o  sana/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que tener en cuenta que este informe se realizará e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po, por  lo que todos los miembros deben estar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ectados y  trabajar en un  documento en línea,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 de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ail del au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92d05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Tare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71680" y="1714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uestro objetivo es realizar dicho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informe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lla  en el apartado </a:t>
            </a:r>
            <a:r>
              <a:rPr b="0" lang="es-ES" sz="2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proces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reunión que tendréis con la pareja, dentro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quince días , hay  que entregar una copia de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e y donde se resolverán las dudas que se l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teen durante  la exposición del informe. Además, tenéis que entregar una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copia al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supervisor,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n nuestro supuesto es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el profesor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f00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66"/>
                </a:solidFill>
                <a:latin typeface="Consolas"/>
              </a:rPr>
              <a:t>Proces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71320" y="1784520"/>
            <a:ext cx="84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pareja</a:t>
            </a:r>
            <a:r>
              <a:rPr b="0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 joven, tienen 32 y 28 años, Marta y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an .Vienen porque Marta está embarazada de 12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nas y   están preocupados, porque Marta tiene u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ano   pequeño, David, que tiene el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síndrome d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Dow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Su  madre  María  lo tuvo a los 43 años.  El padr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hermano de  Marta son </a:t>
            </a: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daltónicos</a:t>
            </a:r>
            <a:r>
              <a:rPr b="0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nque ella y su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re no lo so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cuanto a Juan, no es  daltónico, pero sí padece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hemofilia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u padre, Pedro, también la padec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99680" y="499680"/>
            <a:ext cx="83581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Quieren sabe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se puede saber el sexo a partir del cariotipo del embrión y que técnica se emplearía para ell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su hijo/a podría tener también este síndrome ya que han oído que eso puede pasar si tienen los dos cromosomas 21 unidos, pero no acaban de entender qué significa esto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l niño/a será daltónico y/o padecerá hemofili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centro habéis decidido hacerles el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iotipo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lo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enitores. Los resultados están en las </a:t>
            </a:r>
            <a:r>
              <a:rPr b="0" lang="es-ES" sz="28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figuras 1 y 2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4 Marcador de contenido" descr="cariotipoxx.gif"/>
          <p:cNvPicPr/>
          <p:nvPr/>
        </p:nvPicPr>
        <p:blipFill>
          <a:blip r:embed="rId1"/>
          <a:stretch/>
        </p:blipFill>
        <p:spPr>
          <a:xfrm>
            <a:off x="642960" y="714240"/>
            <a:ext cx="4048200" cy="5286600"/>
          </a:xfrm>
          <a:prstGeom prst="rect">
            <a:avLst/>
          </a:prstGeom>
          <a:ln w="0">
            <a:noFill/>
          </a:ln>
        </p:spPr>
      </p:pic>
      <p:pic>
        <p:nvPicPr>
          <p:cNvPr id="389" name="5 Imagen" descr="cariotipoxy.gif"/>
          <p:cNvPicPr/>
          <p:nvPr/>
        </p:nvPicPr>
        <p:blipFill>
          <a:blip r:embed="rId2"/>
          <a:stretch/>
        </p:blipFill>
        <p:spPr>
          <a:xfrm>
            <a:off x="4786200" y="714240"/>
            <a:ext cx="4048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56760" y="428400"/>
            <a:ext cx="85726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Les tenéis que explicar</a:t>
            </a:r>
            <a:r>
              <a:rPr b="0" lang="es-ES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qué sirve el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diagnóstico prenata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ómo se hace y  si se recomienda  hacer un diagnóstico  a su hijo/a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ausa del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síndrome de Dow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 ¿Qué pasaría si los dos cromosomas 21 estuviesen unidos?. ¿Qué es un cariotipo? y explicarles si sus cariotipos son normales o presentan alguna anomalía. 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se puede saber el sexo  de su hijo/a  y que técnicas se emplearían para ello 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ómo funciona la </a:t>
            </a:r>
            <a:r>
              <a:rPr b="0" lang="es-ES" sz="2800" spc="-1" strike="noStrike">
                <a:solidFill>
                  <a:srgbClr val="f87134"/>
                </a:solidFill>
                <a:latin typeface="Times New Roman"/>
                <a:ea typeface="Times New Roman"/>
              </a:rPr>
              <a:t>determinación del sexo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especie human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21:14:30Z</dcterms:created>
  <dc:creator>Sisa</dc:creator>
  <dc:description/>
  <dc:language>en-US</dc:language>
  <cp:lastModifiedBy>Sisa</cp:lastModifiedBy>
  <dcterms:modified xsi:type="dcterms:W3CDTF">2010-04-04T08:49:03Z</dcterms:modified>
  <cp:revision>24</cp:revision>
  <dc:subject/>
  <dc:title>Diapositiva 1</dc:title>
</cp:coreProperties>
</file>